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F1D6-8660-416F-88FE-79674FB4B2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E6D3-86C0-4230-88F0-1C8B075934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857-42EC-495A-9E2F-A9D742F5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1E1-4F53-4758-A355-C41C87E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E20-41DD-43A6-82C1-4606D90E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AC5-4B28-4CD0-A68B-360628F5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585F-4510-4A67-960C-F57E31BD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FF15-67CB-4E74-8501-480409F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473E-BDC1-4060-8CFF-42D6F324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1EC8-7B7D-4768-B946-7BC40CBE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848A-40D1-46BB-960B-52EF315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35DF-4167-4D2F-B0A5-7B8396AD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EE5B-6E63-40B0-A470-8F930C4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C0C-F625-4CED-A746-B25181C9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32E0-0C6C-4F7F-81FA-6621B57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B32-BA3E-4FEF-9952-9548D34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E95C-A115-41B9-9476-0985799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E6CA-6A2A-475F-AC04-70245BEE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ED3C-97EC-4873-963F-D43957D5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77B20-377F-4ED5-9589-F1207107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F5557-1003-4A08-B812-B54457B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1E7C2-0E06-490B-9993-806AF20F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4A940-FEA8-4CF4-B71B-F5DFD5A2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38980-D4A4-4E62-8475-6E89CE89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813-2940-47CE-82D7-547872EF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239F4-2947-4AAA-8370-976F8AC0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5163D-22B7-43E3-920C-345BFCD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81E50-2F00-4F41-A653-17368A10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F7BED-98AC-47F0-A4A2-B9DE0B25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8A150-1AD3-404E-A22A-684CF08F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65E1B-177E-4533-8379-9F54C106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8299A-4C57-4FFE-A5B8-431245E6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5015-C028-4A54-A01E-7350D204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69DB-2DA5-488B-9D37-E27635E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0D76-6536-40D6-935F-72DB4ECB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7B6-A0D6-4BBD-8A4F-67787D06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33DF-BD37-49C6-B668-CF321BB8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000A-5459-4E77-8448-9430D929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32237-76B3-4B41-B5EB-0F88AD7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A271-145E-4E89-817D-EE4AA8C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DF51-1AA7-4881-8C74-FC7A8B5D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FA0A-C9B3-47C3-9000-2DC87886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AAA9-1260-4C19-BA3F-D2202C5C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79E1-30A5-4026-AC64-B9CA1BA4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41BC-9449-426B-8943-C50A612D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77A-3486-4D97-9F9C-F4CA95DF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371-A070-42C0-9C49-1BE90DD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9B4-6A45-42AD-9679-5DEC7C28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366-0F2A-46FA-B9A2-D46CB62D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EB3-A7C1-4FE5-8513-C0AFA2E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B435-5924-4E3D-8B37-D10F54C8266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75E-F7F2-4119-89AD-F5F40671032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9CD-2A2E-4DD5-812D-2D08442C773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95C-649C-458D-85DE-1E97ECA1E3D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Витамины-друзья или враги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-142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Шувалова Наталья 233 групп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4" descr="vitamin_2.jpg"/>
          <p:cNvPicPr/>
          <p:nvPr/>
        </p:nvPicPr>
        <p:blipFill>
          <a:blip r:embed="rId1"/>
          <a:stretch/>
        </p:blipFill>
        <p:spPr>
          <a:xfrm>
            <a:off x="4429080" y="3786120"/>
            <a:ext cx="4714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Сформировать понятие о витаминах, а так же их биологическую роль в жизни челове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Georgia"/>
              </a:rPr>
              <a:t>1. Сформировать понятие о  витаминах , как о биологически активных вещества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0760" indent="-3207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Georgia"/>
              </a:rPr>
              <a:t>2.  Развивать познавательный интерес к изучению биологических вопросов, логическому мышлению, умения обосновывать свою точку зрения, анализировать, делать выводы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0760" indent="-3207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Georgia"/>
              </a:rPr>
              <a:t>3. Научить применять теоретические знания на практике, сформировать понимание сложности влияния различных биологически активных веществ, в том числе и витаминов ,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4200" y="714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итамины участвуют во множестве биохимических реакций, выполняя каталитическую функцию в составе активных центров большого количества разнообразных ферментов либо выступая информационными регуляторными посредниками, выполняя сигнальные функции экзогенных прогормонов и гормон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ни не являются для организма поставщиком энергии и не имеют существенного пластического значения. Однако витаминам отводится важнейшая роль в обмене вещест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онцентрация витаминов в тканях и суточная потребность в них невелики, но при недостаточном поступлении витаминов в организм наступают характерные и опасные патологические измен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Большинство витаминов не синтезируются в организме человека. Поэтому они должны регулярно и в достаточном количестве поступать в организм с пищей или в виде витаминно-минеральных комплексов и пищевых добавок. Исключение составляет витамин К, достаточное количество которого в норме синтезируется в толстом кишечнике человека за счёт деятельности бактери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 нарушением поступления витаминов в организм связаны 3 принципиальных патологических состояния: недостаток витамина —гиповитаминоз, отсутствие витамина — авитаминоз, и избыток витамина — гипервитаминоз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0004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витами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греч. ἀντί — против, лат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жизнь) — группа органических соединений, подавляющих биологическую активность витамино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единения, близкие к витаминам по химическому строению, но обладающие противоположным биологическим действием. При попадании в организм антивитамины включаются вместо витаминов в реакции обмена веществ и тормозят или нарушают их нормальное течение. Это ведёт к витаминной недостаточности даже в тех случаях, когда соответствующий витамин поступает с пищей в достаточном количестве или образуется в самом организме. Антивитамины известны почти для всех витаминов. Например, антивитамином витамина B1 (тиамина) является пиритиамин, вызывающий явления полиневри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итами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греч. πολύ — много, лат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жизнь) — фармакологические препараты или естественные многокомпонентные полидисперсные вещества, содержащие в своём составе комплекс витаминов и минеральные соеди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м натуральным пищевым поливитамином является грудное молоко, в котором содержится ценный набор из многих эссенциальных витаминов. Для профилактики гиповитаминозов, в особенности у детей, рекомендуется использовать комплексные витаминные препараты. Поливитаминные препараты применяются не только для профилактики и лечения гиповитаминозов, но и в комплексной терапии таких расстройств питания, как гипотрофия или паратроф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 метаболизма у детей, не только поддерживающий жизнедеятельность, но и обеспечивающий рост и развитие детского организма, требует достаточного и регулярного поступления не только витаминов, но и минералов. По мнению отечественных ученых, для российских детей и подростков весьма актуально применениевитаминно-минеральных комплексов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витаминов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орастворимые витамины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инол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ита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гокальцифер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кальцифер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 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ферол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ита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астворимые витами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амин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флав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овая кислота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теновая кислота 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окс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оксаль, пиридоксамин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т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иевая кислота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нокобалам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овая кислота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метион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оподобные вещест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менимые жирные кислоты(витамин F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нозитол (Витамин 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Холин (Витамин В4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витами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болевание, являющееся следствием длительного неполноценного питания, в котором отсутствуют какие-либо витами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витами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ется при недостаточном поступлении витами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витами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зываются приёмом резко повышенных доз витами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 сделать вывод о том, чт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потребляют витамины в незначительном количестве, но без них невозможна нормальная работа органов нашего тела. Витамины активно влияют на обмен веществ, рост и развитие организма, его сопротивляемость к заболеванию. Они</a:t>
            </a:r>
            <a:r>
              <a:rPr b="0" i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не вырабатываются в организме человека, а создаются растениями и животными. Полное отсутствие каких-то витаминов в организме называют авитаминозом. Болезни, возникающие при недостатке витаминов в пище, называют гиповинозами, а от избытка витаминов – гипервитаминоз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офер Хоббс, Элсон Хаа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pedia.ru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утс М. 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 в питании челове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7:50:17Z</dcterms:created>
  <dc:creator>Николай</dc:creator>
  <dc:description/>
  <dc:language>en-US</dc:language>
  <cp:lastModifiedBy>Николай</cp:lastModifiedBy>
  <dcterms:modified xsi:type="dcterms:W3CDTF">2011-05-23T06:23:28Z</dcterms:modified>
  <cp:revision>9</cp:revision>
  <dc:subject/>
  <dc:title>Витамины-друзья или враги?</dc:title>
</cp:coreProperties>
</file>